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CC2-D04F-4F7A-8E17-56E74F52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0E4-1579-4DB0-9919-E540782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42B-817C-4C2E-BF6A-C8C0956A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786-EC93-4127-91D9-F6C0B2A7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BB7-1B91-49B9-BA01-6D02FD9D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D08C-297F-4E86-BD7A-C4CD004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6D50-ADC6-48E4-B94E-C8E65D7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A0CA-D0FE-4F51-A414-65DEF263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087F-0909-41A1-8012-F598DF12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F35E-56E9-4885-AA62-0C8637B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2B82-02E5-48EE-B2F5-DD2F4D4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3AC-EE85-468D-9799-A5FE9D0D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4B2F-4E5E-4E16-8720-4AF93172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D57A-D36E-443A-B1A6-2C9631F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5114-19DB-4ADD-AE95-780F6073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704-3560-4054-AD7A-C09931A8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D160-E027-4FA1-B14B-4478F124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6C8-ECCD-4440-8991-B96FA903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AA9-F2A8-41FB-A62D-3FF1E11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DA6-7B7C-48D2-8B71-263E54F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59F-AD7C-47C4-A7C8-A0A10C03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872-4BE4-4A7A-88B1-A8ABCA9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A62-25C6-47F0-BED0-7D00FD9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5CE-8A93-4EEF-8DCB-9DAF0D8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766-91E4-41D0-8C7B-80526FB109E1}" type="slidenum">
              <a:rPr b="0" lang="hu-H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71AF-F563-47B3-A1A8-24CFB4E6A9DA}" type="slidenum">
              <a:rPr b="0" lang="hu-H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ahoma"/>
              </a:rPr>
              <a:t>Rendszerszervezési eljáráso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ahoma"/>
              </a:rPr>
              <a:t>Howard Lev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jelenlegi információs folyamat elemz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rendszermeghatározás és a berendezések kiválasz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rendszer felszerelése, üzembe helyez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ahoma"/>
              </a:rPr>
              <a:t>Sieme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ervkészítési fáz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felszerelés előkészítésének fáz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tvételi fáz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ahoma"/>
              </a:rPr>
              <a:t>ARDOSZ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okumentálási koncepci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dokumentálási rendszer felépít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ahoma"/>
              </a:rPr>
              <a:t>AIR -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utomatizált Irányítási Rendszer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IR előkészít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Javaslat az AIR létrehozásá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IR koncepció kidolgoz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IR tervez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IR rendszerterv kidolgoz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rendszer alrendszereinek tervez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ahoma"/>
              </a:rPr>
              <a:t>AIR -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utomatizált Irányítási Rends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IR megvalós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lrendszerek bevezet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üzemeltet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ámítóközpont létesít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21:22:02Z</dcterms:created>
  <dc:creator>dr. Csonka Béla György</dc:creator>
  <dc:description/>
  <dc:language>en-US</dc:language>
  <cp:lastModifiedBy>Dr. Csonka Béla György</cp:lastModifiedBy>
  <dcterms:modified xsi:type="dcterms:W3CDTF">1999-10-04T12:25:58Z</dcterms:modified>
  <cp:revision>3</cp:revision>
  <dc:subject/>
  <dc:title>Rendszerszervezési eljárás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softeam.hu</vt:lpwstr>
  </property>
  <property fmtid="{D5CDD505-2E9C-101B-9397-08002B2CF9AE}" pid="9" name="LinkColor">
    <vt:r8>16711782</vt:r8>
  </property>
  <property fmtid="{D5CDD505-2E9C-101B-9397-08002B2CF9AE}" pid="10" name="MailAddress">
    <vt:lpwstr>Csonka.Bela@sp9001.softeam.h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DOKUMENT\SZIF\in17kz\internet\in17kz_7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