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0947-6276-4D26-8624-CE4118BE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F688-6702-4192-B952-C0E8B24F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6FFC-5ED7-4782-BB5C-E041C803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D761-11A0-4677-9A4D-1D307060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025C-E77C-4679-8B21-8102AA51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962B-4F04-4021-9535-6AB998AC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A2A5-9D22-4E7A-9D0E-949C64D3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1B54-9AF9-4CEA-B599-E24C0AB4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4D13-E9D2-449D-828C-7F883D25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FC4E-BB31-44CD-801B-20138E02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3CB8-CF9C-4CF9-8804-D56B98C5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BEF0-4E0E-4918-AD9D-4B4B67CC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3B98-5A0E-4F0D-BEBF-4AFD0EB5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62AE-E147-452D-BF02-3B24AF2A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CE1C-31E0-424B-A854-A2B9F68A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A1B7-0604-45A3-B73F-71EBF944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986C-DECE-42E2-A952-E34A742E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9AC5-58CD-4986-9E50-0F13338A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F42-BE37-4D1F-94F7-EFB47604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D100-D116-471C-96D5-8743DD58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F391-3C7A-4683-9EC2-A8751F79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15C0-8044-411D-AD26-706B830A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AC7F-E87E-4913-8A24-A1338BA1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F2E6-FCE9-41E1-BD00-20302AA0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2897-8FC9-444A-B360-CC43E25FB182}" type="slidenum"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819E-43AF-47A4-994C-C0343589C0FF}" type="slidenum"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 számítógépes információs rendszerek 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 szervezés, tervezés gyakorlati kérdése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ffcc00"/>
                </a:solidFill>
                <a:latin typeface="Times New Roman"/>
              </a:rPr>
              <a:t>Rendszerjavaslat, </a:t>
            </a:r>
            <a:r>
              <a:rPr b="0" i="1" lang="hu-HU" sz="3900" spc="-1" strike="noStrike">
                <a:solidFill>
                  <a:srgbClr val="ffcc00"/>
                </a:solidFill>
                <a:latin typeface="Times New Roman"/>
              </a:rPr>
              <a:t>rendszertanulmány</a:t>
            </a:r>
            <a:endParaRPr b="0" i="1" lang="en-US" sz="39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Célja , fela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Általános szabálya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artalmi követelménye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cc00"/>
                </a:solidFill>
                <a:latin typeface="Times New Roman"/>
              </a:rPr>
              <a:t>A rendszerjavaslat tartalmi követelményei</a:t>
            </a:r>
            <a:endParaRPr b="0" i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Az új információs rendszer célj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A meglévő rendszer bemutatás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A javasolt rendszer működési modellj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A javasolt rendszer megvalósításának feltételrendsze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hardver, szoftver követelménye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költségkalkuláció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szervezeti változtatások indoklás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A kifejlesztés ütemter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A rendszer megvalósíthatóságának bizonyítása, az új rendszer értékelése </a:t>
            </a: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 rendszertervezési tevékenység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z alrendszerek pontos körülhatárolása, kapcsolatok részletes feltár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 tervezés lépései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Átfog (részletes) helyzetfelmér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 rendszer logikai tervezé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 rendszerfejlesztés és üzemeltetés feltételeinek pontosít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 rendszerterv összeállít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z átfogó (részletes) helyzetfelmérés</a:t>
            </a:r>
            <a:br>
              <a:rPr sz="4400"/>
            </a:b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z adatgyűjtés módszere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 reálfolyamat megfigyelé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kikérdezés interjúval és kérdőív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 meglévő dokumentumok összegyűjtése és vizsgál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egyéb módszer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Megfigyelé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zemélyes meggyőződ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oka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ellentétes vélemény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szabálytalanságo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eltérés a leírásoktó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lőnyei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hátránya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Kikérdezés interjúval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ő része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megtervezé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levezeté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információk rendszerezé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értékelé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z interjú megtervezés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émakörök » kérdés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erületek » adatok, folyamat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zemélyek » értékes információt kitől kapun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Mit akarunk megtudni » a személyektő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Interjú tervezési szakasz » előkészületek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zakmai ismeretek, általános tájékozódás a vállalat profiljáró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zójegyzet, szakzsarg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eam tagok - személyek kapcsol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ütemezés: napra, időpontr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evezető látoga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z interjú konkrét kidolgoz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z interjú lefolytatása I.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évjegykárty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 felmérés célja - röviden tisztázn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lőször átfogó kérdés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ragaszkodni a témáho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igen - nem válasz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ritika nélkü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 kérdező saját véleménye - amiről nem szívesen beszéln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 fejlesztési munka szakaszai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Célkitűz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Rendszerelemz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Rendszertervez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Rendszer kivitelezé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Rendszer bevezeté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z interjú lefolytatása II.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gondolkodási időt kell hagyn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ülső zavar hatás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első zavaró hatás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ények és vélemények elkülöníté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összegzés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mellőzzük a tréfák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z interjúalany is kérdezhesse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mutassunk érdeklődést a téma irán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z interjú lefolytatása III.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mire koncentráljunk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idegen, másoknak ismeretlen szava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jegyzet - esetleg írassuk al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milyen szakkönyvet ajánlana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 interjú alanya a szakember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 dolgozó meggyőzé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setleg újabb találkozó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z interjú értékelés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jegyzetek feldolgoz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vélemények - tény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más dolgozót is hallgassunk me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rendszerezni a dokumentumok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Milyen kérdéseket tisztázzunk? 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megfelel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információtartal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érthetősé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imaradt terület, terület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új személy bevonás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öbb nézőpon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ontos a tém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új problémá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Belső - külső szervező </a:t>
            </a:r>
            <a:br>
              <a:rPr sz="4400"/>
            </a:b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különbségek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általános kérdéseket ismer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zakmai nyelv ismere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első körülményekkel „elfogultabb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pontosabban tudja: honnan, m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 szabályok rá is vonatkozna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árgyilagos értékelés kell ebben az esetben is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Kikérdezés kérdőívvel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yílt kérdőí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zárt kérdőí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ísérő levé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itöltési utasí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Kérdőív » előnyök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rövid időn belül sok információ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gyors tájékozta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gy probléma - sok vélemé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Kérdőív » hátrányok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érdések megszerkesztése nehé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setleg újat kell készíten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ények - vélemények elhatárol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em mindig az illetékes személy tölti k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omolytalannak fogják f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ok kérdőív - sok idő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yílt kérdőívet nehéz kiértékeln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Dokumentumok vizsgálata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Munkaköri leírás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Iratkezelési szabályz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izonylati szabályzat és alb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ollektív szerződ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zervezeti és működési szabályz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Minőségbiztosítási rendsz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Munkaköri leírások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a munkakör célj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feladatok, hatáskörök, felelőssége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kapcsolat más munkakörökk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miről, hogyan, kitől, mikor, milyen formában kap információ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miről, hogyan, kinek, mikor, milyen formában ad információ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az információt hogyan dolgozza fe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milyen szakmai előírásoknak kell eleget tenni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az adott munkakör technikai feltételrendsze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Célkitűzés - </a:t>
            </a:r>
            <a:r>
              <a:rPr b="0" i="1" lang="hu-HU" sz="3200" spc="-1" strike="noStrike">
                <a:solidFill>
                  <a:srgbClr val="ffcc00"/>
                </a:solidFill>
                <a:latin typeface="Times New Roman"/>
              </a:rPr>
              <a:t>hogyan látja a vezetőség</a:t>
            </a:r>
            <a:endParaRPr b="0" i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 feladatkijelölés felelősség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időszerű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megvalósíthat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z érdekek egybeesn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 fejlesztés máshol is felveti ennek igényé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Iratkezelési szabályz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z ügyintézés szabálya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iratok megőrzésének, kezelésének szabálya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ügyviteli munka szabálya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levelezési re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dokumentumok archiválási rendj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itkos ügyiratok kezelési szabálya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iratok sokszorosítási szabálya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Bizonylati szabályzat és album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zabályzati rés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bizonylatok kezelési rendj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bizonylatok leírás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lbum » minden bizonylatból egy-egy min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Bizonylati szabályz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izonylat célja, szerepe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iállítás helye, felelős munkakör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ovábbítás módj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lvégzendő feladatok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zonosítása, számozási rendj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rögzítés módja és hely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ffcc00"/>
                </a:solidFill>
                <a:latin typeface="Times New Roman"/>
              </a:rPr>
              <a:t>Egyéb helyzetfelmérő módszerek</a:t>
            </a:r>
            <a:endParaRPr b="0" i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Mérésekk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ecslésen alapuló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zakmai kapcsolat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datfeldolgozási, információs rendszerbeli tapasztalat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 módszerek alkalmazása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Igazodni kell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 konkrét problémához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 felmérési folyamathoz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időponthoz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 megrendelőhöz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általában „vegyesen”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600" spc="-1" strike="noStrike">
                <a:solidFill>
                  <a:srgbClr val="ffcc00"/>
                </a:solidFill>
                <a:latin typeface="Times New Roman"/>
              </a:rPr>
              <a:t>A nyert adatok, információk elemzése</a:t>
            </a:r>
            <a:endParaRPr b="0" i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lemek közötti kapcsolat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összefüggés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ivételes eset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problémák feltár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z elemzés szintje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általán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elem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truktúra rögzíté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 struktúra rögzítés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Horizontál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Vertikál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unkcionál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Célkitűzés - </a:t>
            </a:r>
            <a:r>
              <a:rPr b="0" i="1" lang="hu-HU" sz="3200" spc="-1" strike="noStrike">
                <a:solidFill>
                  <a:srgbClr val="ffcc00"/>
                </a:solidFill>
                <a:latin typeface="Times New Roman"/>
              </a:rPr>
              <a:t>hogyan látja a szervező</a:t>
            </a:r>
            <a:endParaRPr b="0" i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 rendszerrel kapcsolatos általános kérdés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 rendszer kidolgozásának körülménye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 gépi feldolgozással kapcsolatos kérdés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 rendszerelemzés célja, feladata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 jelenlegi rendszer működésének megismerése a problémák feltárásáv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olyan információk gyűjtése, amelyek segítik a kifejlesztendő rendszer tervezésé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 rendszerelemzés célja, feladata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 jelenlegi rendszer működésének megismerése a problémák feltárásáv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olyan információk gyűjtése, amelyek segítik a kifejlesztendő rendszer tervezésé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 rendszerelemzés szakaszai I.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 célrendszer nagyvonalú megismeré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nagyvonalú, előzetes helyzetfelméré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előzetes terv, rendszerjavaslat készíté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Átfogó helyzetfelmérés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lapfolyamat és információs rendszerének funkcionális megismeré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 rendszert alkotó rendszerrészek, és kapcsolataik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bizonylatok tartalmi vizsgál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 rendszerelemzés szakaszai II.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Részletes felmér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lrendszerek funkcióinak, kapcsolatainak feltárás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 bizonylatok tartalmának megismeré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z adatok tartalmának és formájának részletes feltárás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Előzetes helyzetfelméré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Célja, feladata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erülete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z adott szervezet működési, szervezeti jellemző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 reálfolyamat vizsgál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z információs rendszer elemzé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orrása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9T11:56:28Z</dcterms:created>
  <dc:creator>dr. Csonka Béla György</dc:creator>
  <dc:description/>
  <dc:language>en-US</dc:language>
  <cp:lastModifiedBy>Dr. Csonka Béla György</cp:lastModifiedBy>
  <dcterms:modified xsi:type="dcterms:W3CDTF">1999-10-04T12:24:42Z</dcterms:modified>
  <cp:revision>5</cp:revision>
  <dc:subject/>
  <dc:title>A rendszertervezési tevékenysé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softeam.hu</vt:lpwstr>
  </property>
  <property fmtid="{D5CDD505-2E9C-101B-9397-08002B2CF9AE}" pid="9" name="LinkColor">
    <vt:r8>16711782</vt:r8>
  </property>
  <property fmtid="{D5CDD505-2E9C-101B-9397-08002B2CF9AE}" pid="10" name="MailAddress">
    <vt:lpwstr>Csonka.Bela@sp9001.softeam.h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D:\DOKUMENT\SZIF\in17kz\internet\in17kz_7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