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BF2D1-EB8A-46BB-8042-7473E78EB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CB40E-9D78-4452-8BB6-1FA8DFCF4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44886-CB40-420C-8299-57CA8F7A1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C34C6-8578-49FF-A242-8D431BF9D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312FF-03A4-4F25-9050-048974E48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0C156-92B9-4DD1-927D-478313D2C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73BFD-F3CC-4CBA-AACD-6867CCDCC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556CE-063A-4EEE-B550-FF11CA124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DCA01-EB3B-4846-BC88-8DA350B91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D856B-437E-4C80-BF00-535C5F5B5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23026-E50A-4CCC-97F3-C9EAC7B41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843F8-6BC3-4910-A57B-3B068C78B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8E13D-8800-46E3-92BE-7A6CEC863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C0353-F6A3-484A-A211-961FE1C07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F535B-9998-42A1-AF57-6AEA9A12A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35DAF-804B-404D-955E-5859B93E8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593DC-E822-4F7F-8C89-DC3518BD1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4F4A9-6885-4FB7-8259-C0EA114D7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ABB24-523E-4DD0-8DDE-51F4D2A28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63740-4C89-450C-A4D9-8EA098311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8BACA-D468-44FD-BC7B-A5175BAEC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38FCC-EA52-4CF4-9153-6B5896DAA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26C20-965C-4451-BD36-500223002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AAC84-DC0D-46EA-9A99-8AA7F268A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57200" y="992160"/>
            <a:ext cx="8152920" cy="1599840"/>
            <a:chOff x="457200" y="992160"/>
            <a:chExt cx="8152920" cy="1599840"/>
          </a:xfrm>
        </p:grpSpPr>
        <p:sp>
          <p:nvSpPr>
            <p:cNvPr id="1" name=""/>
            <p:cNvSpPr/>
            <p:nvPr/>
          </p:nvSpPr>
          <p:spPr>
            <a:xfrm>
              <a:off x="2886480" y="9921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811960" y="11574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71280" y="13780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030B5-9D8C-432C-AAFF-5FDB40127C8B}" type="slidenum">
              <a:rPr b="0" lang="hu-HU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457200" y="2363760"/>
            <a:ext cx="8152920" cy="1599840"/>
            <a:chOff x="457200" y="2363760"/>
            <a:chExt cx="8152920" cy="1599840"/>
          </a:xfrm>
        </p:grpSpPr>
        <p:sp>
          <p:nvSpPr>
            <p:cNvPr id="47" name=""/>
            <p:cNvSpPr/>
            <p:nvPr/>
          </p:nvSpPr>
          <p:spPr>
            <a:xfrm>
              <a:off x="2886480" y="23637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811960" y="25290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71280" y="27496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2FA09-E251-4C8A-BD60-7D7BB9050BC6}" type="slidenum">
              <a:rPr b="0" lang="hu-HU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4000" spc="-1" strike="noStrike">
                <a:solidFill>
                  <a:srgbClr val="ffcc66"/>
                </a:solidFill>
                <a:latin typeface="Times New Roman"/>
              </a:rPr>
              <a:t>Az információrendszerek</a:t>
            </a:r>
            <a:r>
              <a:rPr b="0" i="1" lang="hu-HU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i="1" lang="hu-HU" sz="4000" spc="-1" strike="noStrike">
                <a:solidFill>
                  <a:srgbClr val="ffcc66"/>
                </a:solidFill>
                <a:latin typeface="Times New Roman"/>
              </a:rPr>
              <a:t>kialakulása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Az információrendszerek fejlődése az információtechnológia fejlődésének tükrébe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4400" spc="-1" strike="noStrike">
                <a:solidFill>
                  <a:srgbClr val="ffcc66"/>
                </a:solidFill>
                <a:latin typeface="Times New Roman"/>
              </a:rPr>
              <a:t>Tények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Nagytömegű adatok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új szervezési módszerek kellenek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a vezetés számos elemét nem lehet egzaktan megfogalmazni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nehéz a befektetések indoklás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4400" spc="-1" strike="noStrike">
                <a:solidFill>
                  <a:srgbClr val="ffcc66"/>
                </a:solidFill>
                <a:latin typeface="Times New Roman"/>
              </a:rPr>
              <a:t>A MIS megvalósításának problémái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Az első időszak problémai: az adatok különböző helyen, különböző struktúrába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eltérő fogalom értelmezések, különböző mértékegységek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az adatok típusait strukturálni, definiálni kel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adatbázis kialakítása, részhalmazok való hozzáférés biztosítás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4400" spc="-1" strike="noStrike">
                <a:solidFill>
                  <a:srgbClr val="ffcc66"/>
                </a:solidFill>
                <a:latin typeface="Times New Roman"/>
              </a:rPr>
              <a:t>A 70-es évek MIS jellemzői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Sok idő és energia a meggyőzésr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rugalmatlan szoftverek, gyenge hatékonyság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a meglévő rendszereket át kell alakítani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egyedi szoftvereket kellett fejleszteni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az információkra heteket, hónapokat kellett várni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4400" spc="-1" strike="noStrike">
                <a:solidFill>
                  <a:srgbClr val="ffcc66"/>
                </a:solidFill>
                <a:latin typeface="Times New Roman"/>
              </a:rPr>
              <a:t>A PC-k megjelenésének problémái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Hasonlóak mint a DP-s korszaké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DP osztályok: divathóbort, játékszer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előnyök és hátrányok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befolyások csökkenés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4400" spc="-1" strike="noStrike">
                <a:solidFill>
                  <a:srgbClr val="ffcc66"/>
                </a:solidFill>
                <a:latin typeface="Times New Roman"/>
              </a:rPr>
              <a:t>A MIS alkalmazások jellemzői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Beruházási célok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Fő hasznosítá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Indokoltság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Felhasználók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A fejlesztési folyamat fő szempontjai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Az IT (DP) vezetésének legfontosabb kérdései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Példák a jellegzetes alkalmazásokr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4400" spc="-1" strike="noStrike">
                <a:solidFill>
                  <a:srgbClr val="ffcc66"/>
                </a:solidFill>
                <a:latin typeface="Times New Roman"/>
              </a:rPr>
              <a:t>Stratégiai információrendszer (SIS)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4400" spc="-1" strike="noStrike">
                <a:solidFill>
                  <a:srgbClr val="ffcc66"/>
                </a:solidFill>
                <a:latin typeface="Times New Roman"/>
              </a:rPr>
              <a:t>Az IS/IT stratégiai alkalmazásának négy típusa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Az információ felhasználásának integrálása a szervezet értéknövelő tevékenységeib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a szervezetet a vevőkkel és szállítókkal hatékonyan összekötő alkalmazások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új, korszerűbb termékek piacra hozatal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felsőbb vezetők ellátása információkka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4400" spc="-1" strike="noStrike">
                <a:solidFill>
                  <a:srgbClr val="ffcc66"/>
                </a:solidFill>
                <a:latin typeface="Times New Roman"/>
              </a:rPr>
              <a:t>Az eredményesség kulcstényezői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Belső helyett külső minták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Költségcsökkentés helyett költségnövelé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Osztozás a haszn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Megérteni az ügyfele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Üzletorientált innováció - megfelelő technológi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Lépésről - lépésre való fejlődé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4400" spc="-1" strike="noStrike">
                <a:solidFill>
                  <a:srgbClr val="ffcc66"/>
                </a:solidFill>
                <a:latin typeface="Times New Roman"/>
              </a:rPr>
              <a:t>A három „korszak” áttekintés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Mikor van a legjobban kimutatható hatékonyság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A vezetés hatásossága az IS/IT függvényébe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Mi kell az IS/IT alkalmazásához napjainkban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4400" spc="-1" strike="noStrike">
                <a:solidFill>
                  <a:srgbClr val="ffcc66"/>
                </a:solidFill>
                <a:latin typeface="Times New Roman"/>
              </a:rPr>
              <a:t>Bevezető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Információ - vagyontárgy, erőforrá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A szervezet folyamatainak fontos elem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Az IT drámai gyorsasággal fejlődik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Tudunk telefonálni - kommunikálni is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4400" spc="-1" strike="noStrike">
                <a:solidFill>
                  <a:srgbClr val="ffcc66"/>
                </a:solidFill>
                <a:latin typeface="Times New Roman"/>
              </a:rPr>
              <a:t>A fejlődés három korszaka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Adatfeldolgozás (DP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Vezetői információrendszerek (MIS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Stratégiai információrendszerek (SIS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4400" spc="-1" strike="noStrike">
                <a:solidFill>
                  <a:srgbClr val="ffcc66"/>
                </a:solidFill>
                <a:latin typeface="Times New Roman"/>
              </a:rPr>
              <a:t>Adatfeldolgozási korszak (DP)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4400" spc="-1" strike="noStrike">
                <a:solidFill>
                  <a:srgbClr val="ffcc66"/>
                </a:solidFill>
                <a:latin typeface="Times New Roman"/>
              </a:rPr>
              <a:t>Új módszerek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Alapvető információs teendők feldolgozása már a számítógép megjelenése előt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új módszerek az ismeretkezelésbe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rutinfeladatok elvégzés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a számítógépet automatizálásra használhatják, elemzése mint egyéb gépeké: több gép, több alkatrész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4400" spc="-1" strike="noStrike">
                <a:solidFill>
                  <a:srgbClr val="ffcc66"/>
                </a:solidFill>
                <a:latin typeface="Times New Roman"/>
              </a:rPr>
              <a:t>Újfajta gondok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Költségnövekedés, hatékonyságelemzés, megtérülés elemzé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egyszer megveszem többet nem kell rá költeni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hosszú távú siker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számítógép - szoftver - ember együttműködés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4400" spc="-1" strike="noStrike">
                <a:solidFill>
                  <a:srgbClr val="ffcc66"/>
                </a:solidFill>
                <a:latin typeface="Times New Roman"/>
              </a:rPr>
              <a:t>PC- megjelenés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cc"/>
                </a:solidFill>
                <a:latin typeface="Times New Roman"/>
              </a:rPr>
              <a:t>előnyei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cc"/>
                </a:solidFill>
                <a:latin typeface="Times New Roman"/>
              </a:rPr>
              <a:t>felhasználóbará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cc"/>
                </a:solidFill>
                <a:latin typeface="Times New Roman"/>
              </a:rPr>
              <a:t>saját szoftverek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cc"/>
                </a:solidFill>
                <a:latin typeface="Times New Roman"/>
              </a:rPr>
              <a:t>gyors fejlődé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cc"/>
                </a:solidFill>
                <a:latin typeface="Times New Roman"/>
              </a:rPr>
              <a:t>elérhetőbb ár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cc"/>
                </a:solidFill>
                <a:latin typeface="Times New Roman"/>
              </a:rPr>
              <a:t>minden asztalon PC, közvetlen felhasználá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4796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cc"/>
                </a:solidFill>
                <a:latin typeface="Times New Roman"/>
              </a:rPr>
              <a:t>Hátrányai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cc"/>
                </a:solidFill>
                <a:latin typeface="Times New Roman"/>
              </a:rPr>
              <a:t>széttöredezett fejlődé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cc"/>
                </a:solidFill>
                <a:latin typeface="Times New Roman"/>
              </a:rPr>
              <a:t>nincs kapcsolat a rendszerek közöt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cc"/>
                </a:solidFill>
                <a:latin typeface="Times New Roman"/>
              </a:rPr>
              <a:t>több informatikus felvétel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cc"/>
                </a:solidFill>
                <a:latin typeface="Times New Roman"/>
              </a:rPr>
              <a:t>hatalmi harc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4400" spc="-1" strike="noStrike">
                <a:solidFill>
                  <a:srgbClr val="ffcc66"/>
                </a:solidFill>
                <a:latin typeface="Times New Roman"/>
              </a:rPr>
              <a:t>Az adatfeldolgozási alkalmazások jellemzői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Beruházási célok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Fő hasznosítá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Indokoltság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Felhasználók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A fejlesztési folyamat fő szempontjai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Az IT (DP) vezetésének legfontosabb kérdései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Példák a jellegzetes alkalmazásokr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4400" spc="-1" strike="noStrike">
                <a:solidFill>
                  <a:srgbClr val="ffcc66"/>
                </a:solidFill>
                <a:latin typeface="Times New Roman"/>
              </a:rPr>
              <a:t>Vezetői információrendszerek (MIS)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2T14:38:06Z</dcterms:created>
  <dc:creator>Dr. Csonka Béla György</dc:creator>
  <dc:description/>
  <dc:language>en-US</dc:language>
  <cp:lastModifiedBy>Dr. Csonka Béla György</cp:lastModifiedBy>
  <dcterms:modified xsi:type="dcterms:W3CDTF">1999-10-23T18:50:49Z</dcterms:modified>
  <cp:revision>6</cp:revision>
  <dc:subject/>
  <dc:title>Az információrendszerek kialakulás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www.softeam.hu</vt:lpwstr>
  </property>
  <property fmtid="{D5CDD505-2E9C-101B-9397-08002B2CF9AE}" pid="9" name="LinkColor">
    <vt:r8>16711782</vt:r8>
  </property>
  <property fmtid="{D5CDD505-2E9C-101B-9397-08002B2CF9AE}" pid="10" name="MailAddress">
    <vt:lpwstr>Csonka.Bela@sp9001.softeam.hu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D:\DOKUMENT\SZIF\in16kz\internet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2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