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6808-3EB8-4278-86AE-52D691A3D4D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333333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333333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333333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333333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333333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333333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333333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333333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333333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333333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333333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333333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5B77-0243-4FCF-8D86-859360B1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AA56-6DFA-4164-9A9E-F8960F48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2844-6D6F-43D0-8A20-08631EAC6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D209-A281-459F-8FA6-F1605C5E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61BE-CDA0-490D-9FB7-F6C6779C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7DC0-1DCC-463A-93B0-970ADDF1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80A8-05AE-4C80-B62C-5DAF6263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F65B-0924-404A-80C5-371F73C3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FDCF-D99B-4815-B33C-85611E51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0915-1241-4356-95C1-677B512C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C4F9-2F56-4D74-87FB-8AFF58CF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E0FF-25A3-4A93-8B47-8C3A64B2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7068-8976-4515-8DE9-64139133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2B41-E2CE-4FAA-8252-D28C201C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DFBD-89F7-4D7B-9980-1241DC26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DE4F-67EF-4B6A-AF03-4178F53B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EF63-7EB7-4B53-85DD-76C40D12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3F2F-D615-44A1-989B-C366ADE4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7BE2-5E32-48B3-A902-8D307202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E3C3-52D7-4EDB-9641-BEBB4D46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4002-F63F-4A34-807F-9E6518D5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B1D4-37B0-418E-9281-8636FFC3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5A46-BCC6-4265-84C1-2EAEE6AA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4195-F7FC-453C-93CE-59C2F279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8EB2-CC3C-4652-BC60-646524980F18}" type="slidenum">
              <a:rPr b="0" lang="hu-H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7FD3-8960-4DF4-8090-96EE5A4BA442}" type="slidenum">
              <a:rPr b="0" lang="hu-H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9b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7240" cy="6861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3720" y="3454560"/>
            <a:ext cx="7653240" cy="344160"/>
          </a:xfrm>
          <a:custGeom>
            <a:avLst/>
            <a:gdLst/>
            <a:ahLst/>
            <a:rect l="l" t="t" r="r" b="b"/>
            <a:pathLst>
              <a:path w="4821" h="217">
                <a:moveTo>
                  <a:pt x="185" y="58"/>
                </a:moveTo>
                <a:lnTo>
                  <a:pt x="194" y="58"/>
                </a:lnTo>
                <a:lnTo>
                  <a:pt x="211" y="58"/>
                </a:lnTo>
                <a:lnTo>
                  <a:pt x="244" y="54"/>
                </a:lnTo>
                <a:lnTo>
                  <a:pt x="286" y="54"/>
                </a:lnTo>
                <a:lnTo>
                  <a:pt x="337" y="50"/>
                </a:lnTo>
                <a:lnTo>
                  <a:pt x="404" y="46"/>
                </a:lnTo>
                <a:lnTo>
                  <a:pt x="480" y="42"/>
                </a:lnTo>
                <a:lnTo>
                  <a:pt x="572" y="38"/>
                </a:lnTo>
                <a:lnTo>
                  <a:pt x="665" y="34"/>
                </a:lnTo>
                <a:lnTo>
                  <a:pt x="774" y="31"/>
                </a:lnTo>
                <a:lnTo>
                  <a:pt x="892" y="27"/>
                </a:lnTo>
                <a:lnTo>
                  <a:pt x="1010" y="23"/>
                </a:lnTo>
                <a:lnTo>
                  <a:pt x="1144" y="19"/>
                </a:lnTo>
                <a:lnTo>
                  <a:pt x="1287" y="15"/>
                </a:lnTo>
                <a:lnTo>
                  <a:pt x="1599" y="7"/>
                </a:lnTo>
                <a:lnTo>
                  <a:pt x="1927" y="4"/>
                </a:lnTo>
                <a:lnTo>
                  <a:pt x="2288" y="0"/>
                </a:lnTo>
                <a:lnTo>
                  <a:pt x="2675" y="0"/>
                </a:lnTo>
                <a:lnTo>
                  <a:pt x="3070" y="4"/>
                </a:lnTo>
                <a:lnTo>
                  <a:pt x="3491" y="7"/>
                </a:lnTo>
                <a:lnTo>
                  <a:pt x="3928" y="19"/>
                </a:lnTo>
                <a:lnTo>
                  <a:pt x="4366" y="34"/>
                </a:lnTo>
                <a:lnTo>
                  <a:pt x="4820" y="58"/>
                </a:lnTo>
                <a:lnTo>
                  <a:pt x="4820" y="61"/>
                </a:lnTo>
                <a:lnTo>
                  <a:pt x="4820" y="69"/>
                </a:lnTo>
                <a:lnTo>
                  <a:pt x="4820" y="85"/>
                </a:lnTo>
                <a:lnTo>
                  <a:pt x="4820" y="104"/>
                </a:lnTo>
                <a:lnTo>
                  <a:pt x="4820" y="150"/>
                </a:lnTo>
                <a:lnTo>
                  <a:pt x="4820" y="200"/>
                </a:lnTo>
                <a:lnTo>
                  <a:pt x="4433" y="177"/>
                </a:lnTo>
                <a:lnTo>
                  <a:pt x="4055" y="162"/>
                </a:lnTo>
                <a:lnTo>
                  <a:pt x="3684" y="150"/>
                </a:lnTo>
                <a:lnTo>
                  <a:pt x="3314" y="146"/>
                </a:lnTo>
                <a:lnTo>
                  <a:pt x="2953" y="146"/>
                </a:lnTo>
                <a:lnTo>
                  <a:pt x="2608" y="146"/>
                </a:lnTo>
                <a:lnTo>
                  <a:pt x="2263" y="154"/>
                </a:lnTo>
                <a:lnTo>
                  <a:pt x="1943" y="162"/>
                </a:lnTo>
                <a:lnTo>
                  <a:pt x="1632" y="169"/>
                </a:lnTo>
                <a:lnTo>
                  <a:pt x="1338" y="181"/>
                </a:lnTo>
                <a:lnTo>
                  <a:pt x="1060" y="193"/>
                </a:lnTo>
                <a:lnTo>
                  <a:pt x="799" y="200"/>
                </a:lnTo>
                <a:lnTo>
                  <a:pt x="564" y="208"/>
                </a:lnTo>
                <a:lnTo>
                  <a:pt x="354" y="212"/>
                </a:lnTo>
                <a:lnTo>
                  <a:pt x="160" y="216"/>
                </a:lnTo>
                <a:lnTo>
                  <a:pt x="0" y="212"/>
                </a:lnTo>
                <a:lnTo>
                  <a:pt x="185" y="58"/>
                </a:lnTo>
              </a:path>
            </a:pathLst>
          </a:custGeom>
          <a:solidFill>
            <a:srgbClr val="bdd7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Szoftver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8960" y="2590920"/>
            <a:ext cx="655308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60-as évek: nagygépes rendszere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kevés hozzáértő szakemb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lassú a fejlesztési folya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napjainkban felgyorsu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személyi szg-e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4c2b"/>
                </a:solidFill>
                <a:latin typeface="Times New Roman"/>
              </a:rPr>
              <a:t>Számítógép üzemmódok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Egyfelhasználó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kötegel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interaktív (multi tasking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Több felhasználó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kötegeltinteraktív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33"/>
                </a:solidFill>
                <a:latin typeface="Times New Roman"/>
              </a:rPr>
              <a:t>dialógus üzemmód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33"/>
                </a:solidFill>
                <a:latin typeface="Times New Roman"/>
              </a:rPr>
              <a:t>időosztáso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33"/>
                </a:solidFill>
                <a:latin typeface="Times New Roman"/>
              </a:rPr>
              <a:t>tranzakcíó orientált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33"/>
                </a:solidFill>
                <a:latin typeface="Times New Roman"/>
              </a:rPr>
              <a:t>folyamatvezérel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7240" cy="6861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Csoportosítás, rendszerezé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hardver mérete: mikro-, kis-, nagygépek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felhasználók száma: egy vagy többfelhasználó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multiprogramozás foka szerint: egy vagy többprogramos üzemmó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feldolgozás időbelisége szerint: kötegelt, interaktív, valós idej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architektúra szerint: centralizált, elosztott, hálózati rendszere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a CPU és a perifériák együttműködése szerint: on line, off line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7240" cy="6861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Egyfelhasználós rendszerek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a felhasználói munkákat csak egymás után képes elvégezn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egyidejűleg csak egy felhasználói program van a memóriába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az összes erőforrást egyedül használj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7240" cy="6861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Multiprogramozott rendszerek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a központi egység egyszerre több felhasználói programmal foglakozi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a memóriában a rendszer egyszerre több programot aktivizál,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törekszik az erőforrások optimális kihasználásár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alapelve: a kényszerű várakozási idők kihasználás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7240" cy="6861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Multitasking rendszer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egyfelhasználós multiprogramozott működés (többfeladatos rendsze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Windows, Novell DOS 7, Mac, OS/2 stb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7240" cy="68612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4c2b"/>
                </a:solidFill>
                <a:latin typeface="Times New Roman"/>
              </a:rPr>
              <a:t>Kötegelt</a:t>
            </a: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 feldolgozá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a számítógépes hozzáférés módja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kötege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futás a felhasználótól függetlenü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a feladatok végrehajtását az operátor ellenőrzi, végezteti a gépp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előre jól definiált programo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egymás után, ill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meghatározott prioritás szerint hajtódnak vég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Dialógus rendszerű feldolgozá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333333"/>
                </a:solidFill>
                <a:latin typeface="Times New Roman"/>
              </a:rPr>
              <a:t>Közvetlen kapcsolat van a felhasználó és a lépésenként, vagy részenként működtetett program között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Előnyök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gyors hozzáféré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nagyon rövid válaszidő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erőforrások hatékony kihasználás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(interaktív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Dialógus rendszerű feldolgozá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időosztásos rendszer (time sharing)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333333"/>
                </a:solidFill>
                <a:latin typeface="Times New Roman"/>
              </a:rPr>
              <a:t>több felhasználó részére is lehetővé teszi a hozzáférést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Időszele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Novel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(interaktív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Dialógus rendszerű feldolgozá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tranzakció orientált: a feldolgozási folyamatot egy elemi esemény indítj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Ugyanazon felhasználói programokhoz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Ugyanazon időben több felhasználó fér hozzá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Nagyon fontos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adatok biztonság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hozzáférési jogosultságok megállapítás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(interaktív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Folyamatirányítá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333333"/>
                </a:solidFill>
                <a:latin typeface="Times New Roman"/>
              </a:rPr>
              <a:t>Az érzékelt jelek értékeinek a megjelenés pillanatában történő azonnali feldolgozása, az eredmény kiértékelése, és az alapfolyamat befolyásolása, szabályozása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(interaktív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7240" cy="6861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A szoftver fogalom értelmezés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ad 1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utasításo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adatstruktúrá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dokumentumo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ad 2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a számítógép egységeinek hatékony együttműködését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a felhasználói igények kielégítését biztosítjá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Folyamatirányítá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valós idejű feldolgozó rendszere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a válasznak meghatározott időkorláton belül kell marad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az ember teljesen nem zárható ki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paraméterek módosítása ( a paramétereket csúcsterhelésre méretezik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Folyamatirányítá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a valós idejű rendszerek komponensei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adatfeldolgozó - értéket foga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elemző - megfelelő form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vezérlő/eredmény kompone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ellenőrző/vezérlő kompone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Többprocesszoros rendszerek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Több központi vezérlő egység működik. Két csoportj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korlátozott feladatokat ellátó számítógép fölé egy központi processzo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több számítógép hálózatba kötv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333333"/>
                </a:solidFill>
                <a:latin typeface="Times New Roman"/>
              </a:rPr>
              <a:t>Egy, a legfelső szinten elhelyezkedő központi egységet több processzor haszná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Hálózatok és osztott rendszerek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Erőforrás megosztá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Futási idők csökkenté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Megbízhatósá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Kommunikáció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Feldolgozási formák szerint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helyi feldolgozá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távadat feldolgozá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Hálózatok és osztott rendszerek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Osztott rendszerek jellemző tulajdonságai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kettő vagy több számítógé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területileg szétszóródta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az elemek összehangolás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önálló munkavégzés is lehetség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a központi adatokhoz való hozzáféré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Osztott rendszer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hu-HU" sz="3200" spc="-1" strike="noStrike">
                <a:solidFill>
                  <a:srgbClr val="333333"/>
                </a:solidFill>
                <a:latin typeface="Times New Roman"/>
              </a:rPr>
              <a:t>Ha a feldolgozó egységek, adatok, a feldolgozási folyamat egymással kölcsönös kapcsolatban álló, de egymástól fizikailag funkcionális részekre oszlana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Vezérlőprogram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e nélkül a számítógép nem működi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cél a a produktivitás maximálás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áteresztőképessé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válaszidő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egyszerű alkalmazhatósá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A vezérlőprogramok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alapvető célja és feladata 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a számítógép egységeinek összehangolt, biztonságos működtetés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a számítógép erőforrásainak lehető legjobb kihasználás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a felhasználó feladatainak gyors, megbízható végrehajtás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Supervisor (főfelügyelő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a vezérlőprogram legfontosabb, az egész számítógép munkáját felügyelő, működésért elsősorban felelős progra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egy része állandóan a memóriában va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Megszakítási rendszer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privilegizál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mindenféle hardver úton végezhető művelet végrehajtása engedélyezet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nem privilegizál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bizonyos műveletek, pl. i/o utasítások tiltotta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a felhasználói programok, ilyen üzemmódban dolgozna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7240" cy="6861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A szoftver fogalom értelmezés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ad 3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A számítógép működtetéséhez szükséges szellemi termékek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rendszerszoftv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felhasználói szoftv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standard felhasználói szoftvere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A megszakítási rendszer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a megszakítások okai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supervisor hívá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/input / output megszakítá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programmegszakítá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külső megszakítá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központi egység meghibásodás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A központi memória kezelés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a felügyelőprogram feladatai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ellenőrzi és szétosztja a rendszer működéséhez szükséges tárterülete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megosztja a tárterületet a felhasználói programok közöt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szervezi a tároló hierarchikus megosztásá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kommunikál a különböző egységek közöt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A központi memória kezelés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Egyszerű tárfelosztá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Partícionált tárfelosztá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felosztás fix partíciókr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dinamikus tárfelosztá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Virtuális memória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A futó programokhoz igényelt központi memória egy lemezterület bővítménnyel rendelkezik, amelyet </a:t>
            </a:r>
            <a:r>
              <a:rPr b="1" i="1" lang="hu-HU" sz="2800" spc="-1" strike="noStrike">
                <a:solidFill>
                  <a:srgbClr val="333333"/>
                </a:solidFill>
                <a:latin typeface="Times New Roman"/>
              </a:rPr>
              <a:t>virtuális tárnak</a:t>
            </a: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 nevezünk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Input/Output vezérlőrendszer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a központi egység és a perifériák közötti adatátvitelt lebonyolító feladatok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a felhasználói program által igényelt I/O egységek kiválasztása, ellenőrzése, rendelkezésre bocsátás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a perifériák és háttértároló közegek fizikai paramétereinek létrehozása és ellenőrzés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a program és az I/O berendezés közötti adatátvitel végrehajtás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4c2b"/>
                </a:solidFill>
                <a:latin typeface="Times New Roman"/>
              </a:rPr>
              <a:t>Felhasználói munkák végrehajtás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munkaütemező  (Job Managemen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felhasználói feladatok végrehajtását vezérl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munkafolyamat vezérlő (Task Managemen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gépi feladatokat vezérl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hibakezelő (Error Diagnosti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működés közben fellépő hardver, szoftver problémák diagnosztizálás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A munkaütemező feladatai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A felhasználó azonosítás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a munka azonosítása és tipus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program betöltés és futtatá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erőforrások, perifériák, háttértárak biztosítás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adatállományok elérése, adatok feldolgozása, törlés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kommunikáció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Munkavezérlő program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Koordinálja és vezérli több egyidejűleg futtatandó program összehangolt működésé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a sorbanálló feladatok indítás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legrégebben várakozó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legrövidebb futási idej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várakozási és a futási idő között legnagyobb különbsé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legmagasabb prioritású munka vagy felhasználó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a munka elkészülésének határidej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4c2b"/>
                </a:solidFill>
                <a:latin typeface="Times New Roman"/>
              </a:rPr>
              <a:t>Az operációs rendszer szolgáltatásai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Szerkesztőprogram és programbetölt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text editoro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rendezőprogramo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összeválogató programo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4c2b"/>
                </a:solidFill>
                <a:latin typeface="Times New Roman"/>
              </a:rPr>
              <a:t>Nagygépes</a:t>
            </a: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 operációs rendszerek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(Mainframe) IBM S/360, S/370, ESA/390: saját operációs rendszere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követelmények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client/szerver architektúr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számtechnika költségeinek csökkenté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nyílt és osztott rendszerek, adatintegritás biztosítás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7240" cy="6861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   </a:t>
            </a:r>
            <a:r>
              <a:rPr b="0" lang="hu-HU" sz="3200" spc="-1" strike="noStrike">
                <a:solidFill>
                  <a:srgbClr val="004c2b"/>
                </a:solidFill>
                <a:latin typeface="Times New Roman"/>
              </a:rPr>
              <a:t>A hardver és  szoftver közötti különbség</a:t>
            </a: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Hardver tervezé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elemzés, tervezés, konstrukció, tesztelés » emberi kreativitá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Szoftver tervez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szintén vannak fizikai elemek (logikai tervek, dokumentációk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gyártás közötti különbsé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10360" y="256716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IBM - ES/9000 rendszer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VSE/ESA: tranzakció és valós idejű feldolgozá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MVS/ESA SP: óriásgépek, hatalmas adatrendszerek, folyamatos működé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VM/ESA, vendég operációs rendszere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SIEMENS 7500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BS 2000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virtuális címzés, osztott üzemmó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minden felhasználó azonos tárolóterületet kap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4c2b"/>
                </a:solidFill>
                <a:latin typeface="Times New Roman"/>
              </a:rPr>
              <a:t>Miniszámítógépek operációs rendszerei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nyitott operációs rendszere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vezérlési és rendszerszolgáltatási funkciók gyártó függetlene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hordozhatóság a különböző rendszerek közöt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együttműködés más felhasználói programokk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átjárhatóság a rendszer felhasználói felülete valamint a programok közöt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4c2b"/>
                </a:solidFill>
                <a:latin typeface="Times New Roman"/>
              </a:rPr>
              <a:t>A nyitott rendszerek előnyei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Integrálja a különböző szg architektúráka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függetlenné teszi a felhasználót a gyártótó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védelem a szoftvervásárlásná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UNIX, DEC cég: VAX,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IBM AS/4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4c2b"/>
                </a:solidFill>
                <a:latin typeface="Times New Roman"/>
              </a:rPr>
              <a:t>PC-k operációs rendszerei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CP/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MS-DOS, PC-DOS, DR-DOS,Novell DOS7                    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WINDOWS, OS/2,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Rendszerközeli szoftverek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Az operációs rendszer szolgáltatásait kiegészítve megkönnyítik a felhasználói munká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csoportosításuk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fordító és szerkesztőprogramo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adat és adatbázis-kezelő rendszere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táblázatkezelő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33"/>
                </a:solidFill>
                <a:latin typeface="Times New Roman"/>
              </a:rPr>
              <a:t>szövegszerkesztők, stb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Fordító- és szerkesztőprogramok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magasszintű, nem gépi kódú programot gépi kódra alakí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szintaktikai hibák lekezelés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7240" cy="6861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Szoftver termékek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algoritmu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9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véges számú műveletsor, a megoldás pontos menete, a műveletek jellege, sorrendiség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információtartal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9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a bemeneti és eredményadatok értéke, formája, egymáshoz való viszony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meghatározhatósá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9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előrelátható műveletek lépések meghatározott sorrendj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7240" cy="6861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Az algoritmus sajátosságai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általános érvényűsé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meghatározhatósá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végessé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determinizmu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7240" cy="6861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4c2b"/>
                </a:solidFill>
                <a:latin typeface="Times New Roman"/>
              </a:rPr>
              <a:t>A szoftverosztályozás hagyma rendszere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HARDV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rendszerszoftv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utilityk, segédprogramo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rendszerközeli pogramrendszere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felhasználói programo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szervízfunkció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7240" cy="6861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Operációs rendszerek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hardverelemek összehangolt működé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megszakítási rendszer kezelé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több felhasználó egyidejű kiszolgálása (multiprogramozá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központi memória kezelé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erőforrások felhasználásának ellenőrzé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felhasználói kommunikáció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információcsere megvalósítás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interfészek kezelése (plug and play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7240" cy="6861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4c2b"/>
                </a:solidFill>
                <a:latin typeface="Times New Roman"/>
              </a:rPr>
              <a:t>Milyen üzemmódban dolgozunk?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a számítógép hardver - szoftver képességei határozzák me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egyidejűleg hány program futását teszi lehetőv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hány processzort ill. felhasználót szolgál ki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333333"/>
                </a:solidFill>
                <a:latin typeface="Times New Roman"/>
              </a:rPr>
              <a:t>milyen a feldolgozások időbelisége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4T20:33:06Z</dcterms:created>
  <dc:creator>dr. Csonka Béla György</dc:creator>
  <dc:description/>
  <dc:language>en-US</dc:language>
  <cp:lastModifiedBy>Dr. Csonka Béla György</cp:lastModifiedBy>
  <dcterms:modified xsi:type="dcterms:W3CDTF">1999-10-04T12:40:12Z</dcterms:modified>
  <cp:revision>11</cp:revision>
  <dc:subject/>
  <dc:title>Nincs diací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www.softeam.hu</vt:lpwstr>
  </property>
  <property fmtid="{D5CDD505-2E9C-101B-9397-08002B2CF9AE}" pid="9" name="LinkColor">
    <vt:r8>16711782</vt:r8>
  </property>
  <property fmtid="{D5CDD505-2E9C-101B-9397-08002B2CF9AE}" pid="10" name="MailAddress">
    <vt:lpwstr>Csonka.Bela@sp9001.softeam.h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D:\DOKUMENT\SZIF\in16kz\internet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